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73E-AB48-4ACF-BCDB-0E243B86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CFF-8240-4ABF-B0A0-296D7DD9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BC5-85E6-493E-9C3C-EC78E989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D4A-17F8-41C4-9EC7-CBA75B8B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A83-562B-4B25-AF80-C8F61968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CC6-713F-4AC6-961A-A0CF90CB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2A1-6D6B-4372-9B89-82A74964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CD0-F89B-4DF5-8377-6FC12094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44C-A134-4F23-8503-572239A0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5D6-8CC8-42B6-9515-32689643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62D-FA65-47D4-A73C-A3985CD1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E2E-A85F-4B02-BABA-B75B149A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F54F-6A12-40C6-9056-49B81E83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0E2C-608A-460B-9751-750D5C4B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0B77-B3BC-498D-AF28-8AE71849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819A-AB68-4DD4-9947-B2C950BF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7A86-2CE7-4CA5-BA66-A68676A3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F0F6-7BCC-4D11-A125-1217C5C6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9B30-6CCB-470B-A0A5-41A0856A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AC55-455C-4B30-B64A-0EDCA143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A6C4-D0B8-45B8-A3B8-78D88AA3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84FD-2796-43D3-AD82-913072B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FE18-BF8C-4E80-9C6E-378E07BE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B664-BBB2-4EA5-BA89-216EC4EC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81EE-CA2A-4C2A-9ADE-B379101E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EC74-3045-40FF-BD3C-B3E1D1A3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A7D4-9E80-4FA0-ACD6-E421260C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F3BF-2BDD-45FF-97FD-0AAFEFAA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A135-90A9-49D5-8A7D-DECEC407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151F-8A89-4957-8DBB-F93C3294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69B7-BA23-4F63-9576-AF8FB68F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E267-85C2-43CC-A440-E1A46046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A6E0-F8E4-495D-A80B-C501AAA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B5AF-31CE-4CEE-A43C-E7FA205E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2D61-E024-4421-B4CE-50492028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691B-86DF-4DD1-994E-F99D280F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3BEE-3BBB-47E3-8E73-22F09DB2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73C2C-6F0E-4477-B640-2FF834FB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1089B-CBA9-4080-AE98-D2593DF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F64EA-4756-49C5-93D5-919778C5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C970-D2BD-4217-853D-A8889804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A255-A292-485C-89B1-EA314E14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6C0EF-54E3-40BF-B53C-D225A60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E338A-D331-4B36-9869-9D6DB122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20FD-0247-49CF-9DAF-BD852241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20F4D-9720-4255-93B1-400E259F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94943-1D74-46B1-A16F-1781C848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B37E9-FB35-42F9-883E-5C8D3FC8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00C12-C9CF-4F45-AC87-F9565B71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D40A2-7798-4671-8784-457EACB9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13C83-CEF2-44AA-9BFA-9D4739AB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F7E8E-34DE-4ECE-B505-634CE538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84D31-8BC5-4797-9FBB-6D0E6FCF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DA4D9-F6EB-4D86-92A1-5C213EE4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26CC8-D6C0-403D-A9F0-BF64062C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236FB-013B-4909-9986-98F60935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F3B93-8EAD-458B-A6CB-07E0243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303B4-EBA3-4A39-8BB2-743D04B5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45EE7-8EE5-4A36-AEFA-BB51CB95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6EED-72E1-4E37-8C81-A10BA04D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2260A-F730-4826-A8B1-5D8D22C0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53689-E328-475C-B2F2-9AD75CC0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1E5CE-2097-46AE-B0F5-02035057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F5D81-5D5E-4CB9-8F5D-BA698B37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138D6-E181-4491-94FF-0838560D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F229E-19F4-491C-9D02-A3786450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A1301-22F1-4289-837B-2EF1723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83C6A-4CF8-402D-A47B-A3785AA6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B7489-99BC-4E6B-B05E-D092232D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6F42-3CFA-4C9D-8F2A-90869CE1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878F7-2F9B-44B5-B74F-250C0160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8F0B6-C54B-491D-99B0-D6F9B480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144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639B-561E-4DB4-873E-22CCF388C3AB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5E55-2645-4CD7-A7B5-EECDF97EE965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BEC8-1A3B-44C8-8C68-9812820A3BE2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812D-4744-46B3-B578-F8B9FF4EA497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E172-732D-45E4-9DF7-B6E27BDB44C9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42A8-9B06-47F3-B888-3D4ABA842904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3592440" y="724320"/>
            <a:ext cx="47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PENERIMAAN MAHASISWA B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JALUR MANDIRI TAHUN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ISI SURAK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1"/>
          <p:cNvSpPr/>
          <p:nvPr/>
        </p:nvSpPr>
        <p:spPr>
          <a:xfrm>
            <a:off x="4375080" y="2138400"/>
            <a:ext cx="657216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ama Peserta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ISN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Asal Sekolah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104840" y="2138400"/>
            <a:ext cx="2865600" cy="394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antumkan foto terbaru seluruh bada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4494240" y="3137040"/>
            <a:ext cx="32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Skenario Maksimal 2 Hala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4884840" y="3013200"/>
            <a:ext cx="242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Rekam Jejak Sebanyaknya 3 Prestasi Terba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4494240" y="3013200"/>
            <a:ext cx="32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Refleksi Diri Pengalaman dan/atau Prestasi di Bidang Film dan Telev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5"/>
          <p:cNvSpPr/>
          <p:nvPr/>
        </p:nvSpPr>
        <p:spPr>
          <a:xfrm>
            <a:off x="4338720" y="3013200"/>
            <a:ext cx="35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Diri atas Motivasi dan Tuj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Memilih Prodi Film dan Telev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5"/>
          <p:cNvSpPr/>
          <p:nvPr/>
        </p:nvSpPr>
        <p:spPr>
          <a:xfrm>
            <a:off x="4452840" y="313704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Form Pernyataan Keaslian Portofol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07:10:12Z</dcterms:created>
  <dc:creator>asyarief</dc:creator>
  <dc:description/>
  <dc:language>en-US</dc:language>
  <cp:lastModifiedBy>NIKMATUZ ZUHRA AINY</cp:lastModifiedBy>
  <dcterms:modified xsi:type="dcterms:W3CDTF">2025-05-27T02:47:18Z</dcterms:modified>
  <cp:revision>35</cp:revision>
  <dc:subject/>
  <dc:title>Slide 1</dc:title>
</cp:coreProperties>
</file>